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xplode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845C-C99D-4AD9-829F-AEA4B640B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CA81-E46A-42DD-8854-35229E23E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3CF2-F37A-47F5-8A7A-D267E71BE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9FF5-77FB-4619-8B53-F753ECBC7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E798-7D2E-4652-B51E-BE5DAB35CD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E4CA-9468-4C1A-9F4D-633BB0043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6217-9D4B-41D5-A584-35A7DF23A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4B81-6E91-4458-AF71-A0EDA85B4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8DF0-D6B0-44DC-86DD-412E58620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8B66-B8D1-4D78-85B7-834C70878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2553-2864-42B4-91FE-EB3070CB2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84DD-A724-4A4D-BCE8-1F58BB8F4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99EEDA-59B9-4925-BB4F-F197B52DA0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4920" y="152280"/>
            <a:ext cx="8686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DIA-U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UCLEAR TREA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Military Benefits to the 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 benefits immensely with India as a major military power. Indian cooperation will be helpful in keeping the sea-lanes fr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 could be a counter weight to a "rising China" in the reg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expansion in India to take up its role as a regional player bids well for the US military hardware suppli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hat does India get out of the De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ture recognition of India as a permanent UN Security Council member. India has tried this in last three years. It has not succeeded. It is unlikely to succeed in next 10 years. But with a Trillion and a half dollar economy (8% growth over ten years), India will make this grade. When UN reforming movement gains strength in the future, India will be right there and waiting for this opportun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Economic benefits to Ind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ercial Aircraft manufacture, ship building, factories to make giant power plants, steel making plants, mining &amp; drilling hardware, petroleum &amp; petrochemical plant building facilities could be ultimately shared with Indi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tter within ten years will have a workforce sufficiently skilled to undertake all the foregoing. It will be beneficial to U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 costs in India, will always stay a third of US, and European costs. That will make India an ideal candidate for this technology transf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Political Benefits to Ind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ia could become a full member of the select group of G-8 member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dia US Nuclear deal is in fact dumping the past and unlocking the hidden potential of the futur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kistan may get the cue and begin a rethink of its policies towards Indi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Military Benefits to Ind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military hardware will have to be produced in India. The only way at present is buy its immediate needs and import technology to develop its own weapon system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a bit expensive up front but pays dividend later as India joins the select group of countries as a source of military hardwar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OMMENDAT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ose who advocate making this special arrangements to permit nuclear cooperation with India ought to be clear and honest about why they are doing 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asons for making the particular deal they propose, while important, do not justify the cost to the national security of doing 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n arrangement which would, in fact, strike the right balance between competing national security interests, an arrangement that may be negotiable at some future time, if not n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CLUS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nited States has good reasons for improving its relations with India, both political and economi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over, independent of such considerations, India’s enormous and growing economic and political importance make the improvement of relations with New Delhi a prudent objective for the United St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FEREN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1600200"/>
            <a:ext cx="8153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shington Post washingtonpost.com Washington Post Staff Writers Friday, March 3, 2006; Page A01 By Jim VandeHei and Dafna Lin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BC News http://www.msnbc.msn.co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ncyclopaedia Britannica 2007 Ultimate Reference Su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uly 18, 2005, President George W. Bush and Prime Minister Manmohan Singh signed the p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543800" cy="341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76520" y="533520"/>
            <a:ext cx="39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ntro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dia will be permitted to import technology for its nuclear program in return for allowing international inspections of nuclear weapons testing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Pa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I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To highlight and discuss about the nuclear treaty between India and United Stat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76520" y="533520"/>
            <a:ext cx="39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Ai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COP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Verdana"/>
              </a:rPr>
              <a:t>Economic benefits to 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 India sets up 10 large size nuclear power plants, India will import technology and hardware from US for at least half of these projec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merging Indo-US co-operation is in the area of aerospace industry. Order for $8 Billion worth of commercial airplanes has been placed with Boeing of Seatt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-operation in auto parts, pharmaceuticals, R &amp; D and defence industry, for each of these US is looking for a low cost supplier, that could be alternative to Chin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Political Benefits to 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a is not politically and diplomatically aligned with US as Europe is, but India as a strategic partner in ensuring safety of sea-lanes of the Indian Ocean is very valuab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ajor regional power, with a different outlook than the Europe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18:15:00Z</dcterms:created>
  <dc:creator/>
  <dc:description/>
  <dc:language>en-US</dc:language>
  <cp:lastModifiedBy/>
  <dcterms:modified xsi:type="dcterms:W3CDTF">2010-01-16T07:16:19Z</dcterms:modified>
  <cp:revision>1</cp:revision>
  <dc:subject/>
  <dc:title>Slide 1</dc:title>
</cp:coreProperties>
</file>