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7C9E-7FBB-44EB-9974-F6218EFB2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F15D-9B01-466E-A5D3-4C13ECAF2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BDF7-AD15-48D0-8DA5-91B7C4759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140E-6380-45C3-B32F-1D8094B5AA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3619-87DB-473E-885E-02E3517DF8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C197-14BF-45D2-9649-19CC09678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F877-F496-4FED-B636-97091A779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BEFD-0FEF-40A7-A6DF-DC3AF2299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FEE7-ACF0-4FC7-94FA-86DB0CBB9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2AE8-917E-4172-8365-3A8E0C723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5127-F523-43E8-98D9-96631E7CF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1F27-1A37-4D49-A2DD-38C60429C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B3FD7-CA8E-421A-BE94-73BD1467E6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152280"/>
            <a:ext cx="8686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ntipur"/>
              </a:rPr>
              <a:t>ef/t–cd]l/sfcf0fljs ;lGw</a:t>
            </a:r>
            <a:endParaRPr b="0" lang="en-US" sz="1800" spc="1" strike="noStrike">
              <a:ln w="2556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ntipur"/>
              <a:ea typeface="Kantipu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Kantipur"/>
              </a:rPr>
              <a:t>cd]l/sfnfO{ x'g] ;}lgs nf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antipur"/>
              </a:rPr>
              <a:t>ef/t Ps If]qLo ;}lgs ;fD‍/fHo e};s]sf] cj:yfdf o;sf] ldqtfn] ef/lto ;fd'lb|s If]q ;'/lIft / ;lhn} pkef]u ug{;lsg]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antipur"/>
              </a:rPr>
              <a:t>Æ/fO{lhª rfOgfÆ sf] ljsNkdf ef/tnfO{ pEofpg ;lsg]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antipur"/>
              </a:rPr>
              <a:t>ef/tdf ;}lgs ;fd/fHo agfpg cfjZos ;}lgs pks/0fx?sf] kl/k"tL{ cd]l/sfaf6 x'g]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Kantipur"/>
              </a:rPr>
              <a:t>ef/tn] of] ;Demf}tfaf6 s] kfp“5&lt;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-3002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4000" spc="-1" strike="noStrike">
                <a:solidFill>
                  <a:srgbClr val="000000"/>
                </a:solidFill>
                <a:latin typeface="Kantipur"/>
              </a:rPr>
              <a:t>sf] :yfoL ;'/Iff kl/ifbsf] ;b:o x'g ;3fp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0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00240" indent="-3002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ntipur"/>
              </a:rPr>
              <a:t>ljut # jif{b]lv ef/t k|of;/t t/ c;kmn. oBlk !) jif{;Dd klg of] ;kmn x'g] ;Defjgf gb]lvPsf]. t/ cd]l/sf;“usf] ;Demf}tfn] !=% va{ 8n/sf] cfly{s ljsf;;“u} ;'/Iff kl/ifbsf] ;b:o x'g k'jf{wf/ k'Ug]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Kantipur"/>
              </a:rPr>
              <a:t>ef/tnfO{ x'g] cfly{s nfe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2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ntipur"/>
              </a:rPr>
              <a:t>Aofkfl/s ljdfgsf] lgdf{0f, kfgLhxfh lgdf{0f, :6Ln lgdf{0f pBf]u, vfgL tyf l8«n ;fdflu|, k]6«f]n tyf s]ldsn lgdf{0f ;DaGwL ;'ljwfx? ef/tn] kfpg ;Sg]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ntipur"/>
              </a:rPr>
              <a:t>ef/tdf !) jif{ leqdf kof{Kt pRr bIf hgzlSt pkf{bg e};Sg] h'g cd]l/sfsf] nflu klg nfebfos x'g]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ntipur"/>
              </a:rPr>
              <a:t>ef/tsf] ;:tf] hgzlSt cd]l/sf pkof]u ug{;Sg]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Kantipur"/>
              </a:rPr>
              <a:t>ef/tnfO{ x'g] /fhg}lts nf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ntipur"/>
              </a:rPr>
              <a:t>ef/t hL–* sf] Ps ;b:o x'g ;Sg]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ntipur"/>
              </a:rPr>
              <a:t>ef/t–cd]l/sf cf0fljs ;lGw ljutnfO{ yftL /fVb} gof“ n's]sf] ;DefJotfx?nfO{ vf]Hg]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ntipur"/>
              </a:rPr>
              <a:t>ef/tk|ltsf] kflstfgsf] ljb]zL gLlt dfly k'glj{rf/ ug{ k|]l/t ug{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Kantipur"/>
              </a:rPr>
              <a:t>ef/tnfO{ x'g] ;}lgs nfe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6640" indent="-29664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ntipur"/>
              </a:rPr>
              <a:t>cfjZos k"jf{wf/x? / k|ljlw cd]l/sfaf6 ;xsfo{u/L eljiodf ef/tnfO{ cfjZos ;}lgs pks/0fx? ;a} ef/tdf g} pTkfbg ug{. ;}lgs pks/0fx? ;a} lab]zaf6 cfoft ug{ ;“w} vlr{nf] / /fli6«o ;'/Iff ;“w} hf]lvdk"0f{ x'g]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ntipur"/>
              </a:rPr>
              <a:t>pk;+xf/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ntipur"/>
              <a:ea typeface="Kantip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Kantipur"/>
              </a:rPr>
              <a:t>pk;+xf/</a:t>
            </a:r>
            <a:endParaRPr b="0" lang="en-US" sz="10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-3002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ntipur"/>
              </a:rPr>
              <a:t>ef/t / cd]l/sf b'O{ b]z aLrsf] /fhg}lts / cfly{s ;DaGw ;'wf/ / alnof] x'g]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0240" indent="-3002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ntipur"/>
              </a:rPr>
              <a:t>ef/tsf] pn{bf] cfly{s tyf ef}lts ljsf;df dxTjk"0f{ km8sf] dfg]{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0240" indent="-3002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ntipur"/>
              </a:rPr>
              <a:t>ef/t zlSt /fi6«x?;“u -cd]l/sf, hfkfg, o'/f]lkog o'lgog_ / ldq/fi6« -rLg, kflstfg_ cfkm\gf] ;DaGw ;'wf/ ub}{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Kantipur"/>
              </a:rPr>
              <a:t>pk;+xf/</a:t>
            </a:r>
            <a:endParaRPr b="0" lang="en-US" sz="10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6640" indent="-296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ntipur"/>
              </a:rPr>
              <a:t>ljZj xltof/ lgzlZqs/0f lt/ nfu]sf] a]nf ef/t–cd]l/sf cf0fljs ;Demf}tfn] cf0fljs xltof/sf] xf]8afhL k'g Ps rf]6L z'?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6640" indent="-296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ntipur"/>
              </a:rPr>
              <a:t>o; ;Demf}tfn] !(()df /f]lsPsf] cd]l/sf–kflstfg aLr xltof/ ljls| k'g &amp;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-16</a:t>
            </a:r>
            <a:r>
              <a:rPr b="0" lang="en-US" sz="3200" spc="-1" strike="noStrike">
                <a:solidFill>
                  <a:srgbClr val="000000"/>
                </a:solidFill>
                <a:latin typeface="Kantipur"/>
              </a:rPr>
              <a:t> ljdfgsf] sf/f]jf/af6 z'? ePsf]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6640" indent="-296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ntipur"/>
              </a:rPr>
              <a:t>O/fg t blIf0f sf]l/ofnfO{ lgzlZqs/0f ug{ nfluk/]sf] cd]l/sf ef/tnfO{ eg] cf0fljs ;xof]u -zlZqs/0f_ ug{ tof/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6640" indent="-296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ntipur"/>
              </a:rPr>
              <a:t>ef/tn] !((* cf0fljs lgzlZqs/0f ;lGwdf x:tfIf/ u/]sf] 5}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ntipur"/>
              </a:rPr>
              <a:t>&gt;f]t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ntipur"/>
              <a:ea typeface="Kantip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Kantipur"/>
                <a:ea typeface="Mangal"/>
              </a:rPr>
              <a:t>&gt;f]tx?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shington Post washingtonpost.com Washington Post Staff Writers Friday, March 3, 2006; Page A01 By Jim VandeHei and Dafna Lin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BC News http://www.msnbc.msn.co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ncyclopaedia Britannica 2007 Ultimate Reference Su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600200"/>
            <a:ext cx="8153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ntipur"/>
              </a:rPr>
              <a:t>kl/r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ntipur"/>
              <a:ea typeface="Kantipur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antipur"/>
              </a:rPr>
              <a:t>;g\ @))%, h'nfO{ !* cd]l/sL /fi6«klt hh{a'; / ef/tLo k|wfg dGqL dgdf]xg l;+xaf6 cf0fljs ;lGwdf x:tfIf/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543800" cy="34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76520" y="533520"/>
            <a:ext cx="39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Kantipur"/>
              </a:rPr>
              <a:t>kl/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5400000"/>
              </a:gradFill>
              <a:latin typeface="Kantipur"/>
              <a:ea typeface="Kantipu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612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ntipur"/>
              </a:rPr>
              <a:t>ef/tn] cGt/fli6«o ;'kl/j]If0f 6f]nLnfO{ cf0fljs xftxltof/sf] lgl/If0f ug{lbPdf ef/tn] cfkm\gf] cf0fljs sfo{s|dsf] nflu gof“ k|ljlw leqfpg kfpg]5 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Kantipur"/>
              </a:rPr>
              <a:t>cf0fljs ;lGw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ntipur"/>
              </a:rPr>
              <a:t>p2]Z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ntipur"/>
              <a:ea typeface="Kantip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296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antipur"/>
              </a:rPr>
              <a:t>of] k|Zt'tLsf] p2]Zo ef/t / cd]l/sf aLr ePsf] cf0fljs ;lGwsf] af/]df hfgsfl/ lbg' / 5nkmn ug{' 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76520" y="533520"/>
            <a:ext cx="39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Kantipur"/>
              </a:rPr>
              <a:t>p2]Z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5400000"/>
              </a:gradFill>
              <a:latin typeface="Kantipur"/>
              <a:ea typeface="Kantip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ntipur"/>
              </a:rPr>
              <a:t>:sf]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ntipur"/>
              <a:ea typeface="Kantip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Kantipur"/>
              </a:rPr>
              <a:t>cd]l/sfnfO{ x'g] cfly{s nfe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ntipur"/>
              </a:rPr>
              <a:t>ef/tn] !) j6f cf0fljs e66L v8f u/]df, slDtdf cfwfsf] nflu rflxg] k|ljlw tyf kf6{k'hF{x? cd]l/sfaf6 cfoft ug]{5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7160"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7160" indent="-31716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ntipur"/>
              </a:rPr>
              <a:t>ef/t–cd]l/sL ;Demf}tfn] b'O{ b]zaLrsf] xjfO{ tyf cGtl/If sfo{s|dsf] nflu yk 6]jf k'Ug]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7160" indent="0" algn="just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7160" indent="-31716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ntipur"/>
              </a:rPr>
              <a:t>hl8a'6L, cg';Gwfg tyf lj:tf/, k|lt/Iff pBf]udf cfk;L ;dembf/L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7160" indent="0" algn="just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17160" indent="-31716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ntipur"/>
              </a:rPr>
              <a:t>cd]l/sfsf] nflu rLgsf] ljsNkdf ef/t ;:tf] ;Knf{o;{ x'g;Sg]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Kantipur"/>
              </a:rPr>
              <a:t>cd]l/sfnfO{ x'g] /fhgLlts nfe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6120" indent="-276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ntipur"/>
              </a:rPr>
              <a:t>ef/t cd]l/sf / o'/f]k;+u /fhg}lts / s'6gLlts ?kdf s;};“u cfa4 gePsf] 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6120" indent="-276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ntipur"/>
              </a:rPr>
              <a:t>ef/t;“usf] 3lgi6tfn] ef/lto ;fd'lb|s t6 / ef/lto ;d'b| cfkm\gf] nflu ;'/lIft agfpg ;lsg]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6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ntipu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6120" indent="-276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ntipur"/>
              </a:rPr>
              <a:t>ef/t Ps dxTjk"0f{ IfqLo zlSt e};s]sf]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8:15:00Z</dcterms:created>
  <dc:creator/>
  <dc:description/>
  <dc:language>en-US</dc:language>
  <cp:lastModifiedBy/>
  <dcterms:modified xsi:type="dcterms:W3CDTF">2010-01-16T07:17:49Z</dcterms:modified>
  <cp:revision>1</cp:revision>
  <dc:subject/>
  <dc:title>Slide 1</dc:title>
</cp:coreProperties>
</file>