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xplode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37CD-CFEC-493E-B970-96733CC1C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8C75-043D-4127-BD2A-5AB6C847B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0215-3946-4043-8241-B95103305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0C448-6108-4A07-A1C5-B27A57D7B6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4225-BF3A-4F5E-94D2-BCD0D47200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10DB-46C5-40AB-A679-0A7FDCA8B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D0B3D-4993-44C8-B7B8-B46837766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34610-71BD-488A-8D29-A48F07D93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533B-D30C-4F39-9B08-D9E7DEC81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5484-49AF-4F28-9227-B82333D6A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37E3-50B6-438B-9DFE-C8584B95C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56D47-4C6A-4C2B-BF1A-13A7A5CB2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7665A4-E86E-4002-BBEB-92918CCDA8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04920" y="152280"/>
            <a:ext cx="86868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1800" spc="1" strike="noStrike">
                <a:ln w="255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Kalimati"/>
              </a:rPr>
              <a:t>भारत</a:t>
            </a:r>
            <a:r>
              <a:rPr b="0" lang="en-US" sz="1800" spc="1" strike="noStrike">
                <a:ln w="255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Kalimati"/>
              </a:rPr>
              <a:t>-</a:t>
            </a:r>
            <a:r>
              <a:rPr b="0" lang="hi-IN" sz="1800" spc="1" strike="noStrike">
                <a:ln w="255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Kalimati"/>
              </a:rPr>
              <a:t>अमेरिका</a:t>
            </a:r>
            <a:endParaRPr b="0" lang="en-US" sz="1800" spc="1" strike="noStrike">
              <a:ln w="2556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Kalimati"/>
              <a:ea typeface="Kalimati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1800" spc="1" strike="noStrike">
                <a:ln w="255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Kalimati"/>
              </a:rPr>
              <a:t>आणविक सन्धि</a:t>
            </a:r>
            <a:endParaRPr b="0" lang="en-US" sz="1800" spc="1" strike="noStrike">
              <a:ln w="2556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Kalimati"/>
              <a:ea typeface="Kalimat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a-IN" sz="4400" spc="-1" strike="noStrike">
                <a:solidFill>
                  <a:srgbClr val="333399"/>
                </a:solidFill>
                <a:latin typeface="Verdana"/>
                <a:cs typeface="Mangal"/>
              </a:rPr>
              <a:t>अमेरिकालाई हुने सैनिक लाभ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  <a:cs typeface="Mangal"/>
              </a:rPr>
              <a:t>भारत एक क्षेत्रीय सैनिक साम्‍राज्य भैसकेको अवस्थामा यसको मित्रताले भारतिय सामुद्रिक क्षेत्र सुरक्षित र सजिलै उपभोग गर्न सकिने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angal"/>
              </a:rPr>
              <a:t>“</a:t>
            </a:r>
            <a:r>
              <a:rPr b="0" lang="hi-IN" sz="2800" spc="-1" strike="noStrike">
                <a:solidFill>
                  <a:srgbClr val="000000"/>
                </a:solidFill>
                <a:latin typeface="Verdana"/>
                <a:cs typeface="Mangal"/>
              </a:rPr>
              <a:t>राईजिङ चाइन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angal"/>
              </a:rPr>
              <a:t>”</a:t>
            </a:r>
            <a:r>
              <a:rPr b="0" lang="hi-IN" sz="2800" spc="-1" strike="noStrike">
                <a:solidFill>
                  <a:srgbClr val="000000"/>
                </a:solidFill>
                <a:latin typeface="Verdana"/>
                <a:cs typeface="Mangal"/>
              </a:rPr>
              <a:t>को विकल्पमा भारतलाई उभ्याउन सकिने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  <a:cs typeface="Mangal"/>
              </a:rPr>
              <a:t>भारतमा सैनिक सामराज्य बनाउन आवश्यक सैनिक उपकरणहरुको परिपूर्ती अमेरिकाबाट हुने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a-IN" sz="4400" spc="-1" strike="noStrike">
                <a:solidFill>
                  <a:srgbClr val="333399"/>
                </a:solidFill>
                <a:latin typeface="Verdana"/>
                <a:cs typeface="Mangal"/>
              </a:rPr>
              <a:t>भारतले यो सम्झौताबाट के पाउँछ</a:t>
            </a:r>
            <a:r>
              <a:rPr b="1" lang="sa-IN" sz="4400" spc="-1" strike="noStrike">
                <a:solidFill>
                  <a:srgbClr val="333399"/>
                </a:solidFill>
                <a:latin typeface="Verdana"/>
                <a:ea typeface="Mang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Mangal"/>
              </a:rPr>
              <a:t>UN </a:t>
            </a:r>
            <a:r>
              <a:rPr b="0" lang="sa-IN" sz="3200" spc="-1" strike="noStrike">
                <a:solidFill>
                  <a:srgbClr val="000000"/>
                </a:solidFill>
                <a:latin typeface="Verdana"/>
                <a:cs typeface="Mangal"/>
              </a:rPr>
              <a:t>को स्थायी सुरक्षा परिषदको सदस्य हुन सघाउ।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3200" spc="-1" strike="noStrike">
                <a:solidFill>
                  <a:srgbClr val="000000"/>
                </a:solidFill>
                <a:latin typeface="Verdana"/>
                <a:cs typeface="Mangal"/>
              </a:rPr>
              <a:t>विगत ३ वर्ष देखि भारत प्रयासरत तर असफल। यद्येपि १० वर्ष सम्म पनि यो सफल हुने सम्भावना नदेखिएको। तर अमेरिकासँगको सम्झौताले १</a:t>
            </a:r>
            <a:r>
              <a:rPr b="0" lang="sa-IN" sz="3200" spc="-1" strike="noStrike">
                <a:solidFill>
                  <a:srgbClr val="000000"/>
                </a:solidFill>
                <a:latin typeface="Verdana"/>
                <a:ea typeface="Mangal"/>
              </a:rPr>
              <a:t>.</a:t>
            </a:r>
            <a:r>
              <a:rPr b="0" lang="sa-IN" sz="3200" spc="-1" strike="noStrike">
                <a:solidFill>
                  <a:srgbClr val="000000"/>
                </a:solidFill>
                <a:latin typeface="Verdana"/>
                <a:cs typeface="Mangal"/>
              </a:rPr>
              <a:t>५ खर्ब डलरको आर्थिक विकाससँगै सुरक्षा परिषदको सदस्य हुन पुर्वाधार पुग्ने।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a-IN" sz="5400" spc="-1" strike="noStrike">
                <a:solidFill>
                  <a:srgbClr val="333399"/>
                </a:solidFill>
                <a:latin typeface="Verdana"/>
                <a:cs typeface="Mangal"/>
              </a:rPr>
              <a:t>भारतलाई हुने आर्थिक लाभ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2800" spc="-1" strike="noStrike">
                <a:solidFill>
                  <a:srgbClr val="000000"/>
                </a:solidFill>
                <a:latin typeface="Verdana"/>
                <a:cs typeface="Mangal"/>
              </a:rPr>
              <a:t>व्यापारिक विमानको निर्माण</a:t>
            </a:r>
            <a:r>
              <a:rPr b="0" lang="sa-IN" sz="2800" spc="-1" strike="noStrike">
                <a:solidFill>
                  <a:srgbClr val="000000"/>
                </a:solidFill>
                <a:latin typeface="Verdana"/>
                <a:ea typeface="Mangal"/>
              </a:rPr>
              <a:t>, </a:t>
            </a:r>
            <a:r>
              <a:rPr b="0" lang="sa-IN" sz="2800" spc="-1" strike="noStrike">
                <a:solidFill>
                  <a:srgbClr val="000000"/>
                </a:solidFill>
                <a:latin typeface="Verdana"/>
                <a:cs typeface="Mangal"/>
              </a:rPr>
              <a:t>पानीजहाज निर्माण</a:t>
            </a:r>
            <a:r>
              <a:rPr b="0" lang="sa-IN" sz="2800" spc="-1" strike="noStrike">
                <a:solidFill>
                  <a:srgbClr val="000000"/>
                </a:solidFill>
                <a:latin typeface="Verdana"/>
                <a:ea typeface="Mangal"/>
              </a:rPr>
              <a:t>, </a:t>
            </a:r>
            <a:r>
              <a:rPr b="0" lang="sa-IN" sz="2800" spc="-1" strike="noStrike">
                <a:solidFill>
                  <a:srgbClr val="000000"/>
                </a:solidFill>
                <a:latin typeface="Verdana"/>
                <a:cs typeface="Mangal"/>
              </a:rPr>
              <a:t>स्टील निर्माण उद्योग</a:t>
            </a:r>
            <a:r>
              <a:rPr b="0" lang="sa-IN" sz="2800" spc="-1" strike="noStrike">
                <a:solidFill>
                  <a:srgbClr val="000000"/>
                </a:solidFill>
                <a:latin typeface="Verdana"/>
                <a:ea typeface="Mangal"/>
              </a:rPr>
              <a:t>, </a:t>
            </a:r>
            <a:r>
              <a:rPr b="0" lang="sa-IN" sz="2800" spc="-1" strike="noStrike">
                <a:solidFill>
                  <a:srgbClr val="000000"/>
                </a:solidFill>
                <a:latin typeface="Verdana"/>
                <a:cs typeface="Mangal"/>
              </a:rPr>
              <a:t>खानी तथा ड्रील सामाग्रि</a:t>
            </a:r>
            <a:r>
              <a:rPr b="0" lang="sa-IN" sz="2800" spc="-1" strike="noStrike">
                <a:solidFill>
                  <a:srgbClr val="000000"/>
                </a:solidFill>
                <a:latin typeface="Verdana"/>
                <a:ea typeface="Mangal"/>
              </a:rPr>
              <a:t>, </a:t>
            </a:r>
            <a:r>
              <a:rPr b="0" lang="sa-IN" sz="2800" spc="-1" strike="noStrike">
                <a:solidFill>
                  <a:srgbClr val="000000"/>
                </a:solidFill>
                <a:latin typeface="Verdana"/>
                <a:cs typeface="Mangal"/>
              </a:rPr>
              <a:t>पेट्रोल तथा केमिकल निर्माण सम्बन्धी सुविधाहरु भारतले पाउने सक्ने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2800" spc="-1" strike="noStrike">
                <a:solidFill>
                  <a:srgbClr val="000000"/>
                </a:solidFill>
                <a:latin typeface="Verdana"/>
                <a:cs typeface="Mangal"/>
              </a:rPr>
              <a:t>भारतमा १० वर्ष भित्रमा पर्याप्त उच्च दक्ष जनशक्ति उत्पादन भैसक्ने जुन अमेरिकाको लागि पनि लाभदायक हुने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2800" spc="-1" strike="noStrike">
                <a:solidFill>
                  <a:srgbClr val="000000"/>
                </a:solidFill>
                <a:latin typeface="Verdana"/>
                <a:cs typeface="Mangal"/>
              </a:rPr>
              <a:t>भारतको सस्तो जनशक्ति अमेरिका उपयोग गर्न सक्ने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a-IN" sz="5400" spc="-1" strike="noStrike">
                <a:solidFill>
                  <a:srgbClr val="333399"/>
                </a:solidFill>
                <a:latin typeface="Verdana"/>
                <a:cs typeface="Mangal"/>
              </a:rPr>
              <a:t>भारतलाई हुने राजनैतिक लाभ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3200" spc="-1" strike="noStrike">
                <a:solidFill>
                  <a:srgbClr val="000000"/>
                </a:solidFill>
                <a:latin typeface="Verdana"/>
                <a:cs typeface="Mangal"/>
              </a:rPr>
              <a:t>भारत जी</a:t>
            </a:r>
            <a:r>
              <a:rPr b="0" lang="sa-IN" sz="3200" spc="-1" strike="noStrike">
                <a:solidFill>
                  <a:srgbClr val="000000"/>
                </a:solidFill>
                <a:latin typeface="Verdana"/>
                <a:ea typeface="Mangal"/>
              </a:rPr>
              <a:t>-</a:t>
            </a:r>
            <a:r>
              <a:rPr b="0" lang="sa-IN" sz="3200" spc="-1" strike="noStrike">
                <a:solidFill>
                  <a:srgbClr val="000000"/>
                </a:solidFill>
                <a:latin typeface="Verdana"/>
                <a:cs typeface="Mangal"/>
              </a:rPr>
              <a:t>८ को एक सदस्य हुन सक्ने।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3200" spc="-1" strike="noStrike">
                <a:solidFill>
                  <a:srgbClr val="000000"/>
                </a:solidFill>
                <a:latin typeface="Verdana"/>
                <a:cs typeface="Mangal"/>
              </a:rPr>
              <a:t>भारत</a:t>
            </a:r>
            <a:r>
              <a:rPr b="0" lang="sa-IN" sz="3200" spc="-1" strike="noStrike">
                <a:solidFill>
                  <a:srgbClr val="000000"/>
                </a:solidFill>
                <a:latin typeface="Verdana"/>
                <a:ea typeface="Mangal"/>
              </a:rPr>
              <a:t>-</a:t>
            </a:r>
            <a:r>
              <a:rPr b="0" lang="sa-IN" sz="3200" spc="-1" strike="noStrike">
                <a:solidFill>
                  <a:srgbClr val="000000"/>
                </a:solidFill>
                <a:latin typeface="Verdana"/>
                <a:cs typeface="Mangal"/>
              </a:rPr>
              <a:t>अमेरिका आणविक सन्धि विगतलाई थाती राख्दै नयाँ लुकेको सम्भाव्यताहरुलाई खोज्ने।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3200" spc="-1" strike="noStrike">
                <a:solidFill>
                  <a:srgbClr val="000000"/>
                </a:solidFill>
                <a:latin typeface="Verdana"/>
                <a:cs typeface="Mangal"/>
              </a:rPr>
              <a:t>भारतप्रतिको पाकिस्तानको विदेशी नीति माथि पुनर्विचार गर्न प्रेरित गर्नु।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a-IN" sz="5400" spc="-1" strike="noStrike">
                <a:solidFill>
                  <a:srgbClr val="333399"/>
                </a:solidFill>
                <a:latin typeface="Verdana"/>
                <a:cs typeface="Mangal"/>
              </a:rPr>
              <a:t>भारतलाई हुने सैनिक लाभ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3200" spc="-1" strike="noStrike">
                <a:solidFill>
                  <a:srgbClr val="000000"/>
                </a:solidFill>
                <a:latin typeface="Verdana"/>
                <a:cs typeface="Mangal"/>
              </a:rPr>
              <a:t>आवश्यक पूर्वाधारहरु र प्रविधि अमेरिकाबाट सहकार्य गरी भविष्यमा भारतलाई आवश्यक सैनिक उपकरणहरु सबै भारतमा नै उत्पादन गर्नु। सैनिक उपकरणहरु सबै बिदेशबाट आयात गर्नु सँधै खर्चिलो र राष्ट्रिय सुरक्षा सँधै जोखिमपूर्ण हुने।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09480" y="1828800"/>
            <a:ext cx="81536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उपसंहा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i-IN" sz="8800" spc="-1" strike="noStrike">
                <a:solidFill>
                  <a:srgbClr val="000000"/>
                </a:solidFill>
                <a:latin typeface="Verdana"/>
                <a:cs typeface="Mangal"/>
              </a:rPr>
              <a:t>उपसंहार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3200" spc="-1" strike="noStrike">
                <a:solidFill>
                  <a:srgbClr val="000000"/>
                </a:solidFill>
                <a:latin typeface="Verdana"/>
                <a:cs typeface="Mangal"/>
              </a:rPr>
              <a:t>भारत र अमेरिका दुई देश बीचको राजनैतिक र आर्थिक सम्बन्ध सुधार र बलियो हुने।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3200" spc="-1" strike="noStrike">
                <a:solidFill>
                  <a:srgbClr val="000000"/>
                </a:solidFill>
                <a:latin typeface="Verdana"/>
                <a:cs typeface="Mangal"/>
              </a:rPr>
              <a:t>भारतको उर्लदो आर्थिक तथा भौतिक विकासमा महत्वपूर्ण फड्को मार्ने।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3200" spc="-1" strike="noStrike">
                <a:solidFill>
                  <a:srgbClr val="000000"/>
                </a:solidFill>
                <a:latin typeface="Verdana"/>
                <a:cs typeface="Mangal"/>
              </a:rPr>
              <a:t>भारत शक्ति राष्ट्रहरुसँग </a:t>
            </a:r>
            <a:r>
              <a:rPr b="0" lang="sa-IN" sz="3200" spc="-1" strike="noStrike">
                <a:solidFill>
                  <a:srgbClr val="000000"/>
                </a:solidFill>
                <a:latin typeface="Verdana"/>
                <a:ea typeface="Mangal"/>
              </a:rPr>
              <a:t>(</a:t>
            </a:r>
            <a:r>
              <a:rPr b="0" lang="sa-IN" sz="3200" spc="-1" strike="noStrike">
                <a:solidFill>
                  <a:srgbClr val="000000"/>
                </a:solidFill>
                <a:latin typeface="Verdana"/>
                <a:cs typeface="Mangal"/>
              </a:rPr>
              <a:t>अमेरिका</a:t>
            </a:r>
            <a:r>
              <a:rPr b="0" lang="sa-IN" sz="3200" spc="-1" strike="noStrike">
                <a:solidFill>
                  <a:srgbClr val="000000"/>
                </a:solidFill>
                <a:latin typeface="Verdana"/>
                <a:ea typeface="Mangal"/>
              </a:rPr>
              <a:t>, </a:t>
            </a:r>
            <a:r>
              <a:rPr b="0" lang="sa-IN" sz="3200" spc="-1" strike="noStrike">
                <a:solidFill>
                  <a:srgbClr val="000000"/>
                </a:solidFill>
                <a:latin typeface="Verdana"/>
                <a:cs typeface="Mangal"/>
              </a:rPr>
              <a:t>जापान</a:t>
            </a:r>
            <a:r>
              <a:rPr b="0" lang="sa-IN" sz="3200" spc="-1" strike="noStrike">
                <a:solidFill>
                  <a:srgbClr val="000000"/>
                </a:solidFill>
                <a:latin typeface="Verdana"/>
                <a:ea typeface="Mangal"/>
              </a:rPr>
              <a:t>, </a:t>
            </a:r>
            <a:r>
              <a:rPr b="0" lang="sa-IN" sz="3200" spc="-1" strike="noStrike">
                <a:solidFill>
                  <a:srgbClr val="000000"/>
                </a:solidFill>
                <a:latin typeface="Verdana"/>
                <a:cs typeface="Mangal"/>
              </a:rPr>
              <a:t>युरोपियन युनियन</a:t>
            </a:r>
            <a:r>
              <a:rPr b="0" lang="sa-IN" sz="3200" spc="-1" strike="noStrike">
                <a:solidFill>
                  <a:srgbClr val="000000"/>
                </a:solidFill>
                <a:latin typeface="Verdana"/>
                <a:ea typeface="Mangal"/>
              </a:rPr>
              <a:t>) </a:t>
            </a:r>
            <a:r>
              <a:rPr b="0" lang="sa-IN" sz="3200" spc="-1" strike="noStrike">
                <a:solidFill>
                  <a:srgbClr val="000000"/>
                </a:solidFill>
                <a:latin typeface="Verdana"/>
                <a:cs typeface="Mangal"/>
              </a:rPr>
              <a:t>र मित्रराष्ट्र </a:t>
            </a:r>
            <a:r>
              <a:rPr b="0" lang="sa-IN" sz="3200" spc="-1" strike="noStrike">
                <a:solidFill>
                  <a:srgbClr val="000000"/>
                </a:solidFill>
                <a:latin typeface="Verdana"/>
                <a:ea typeface="Mangal"/>
              </a:rPr>
              <a:t>(</a:t>
            </a:r>
            <a:r>
              <a:rPr b="0" lang="sa-IN" sz="3200" spc="-1" strike="noStrike">
                <a:solidFill>
                  <a:srgbClr val="000000"/>
                </a:solidFill>
                <a:latin typeface="Verdana"/>
                <a:cs typeface="Mangal"/>
              </a:rPr>
              <a:t>चीन</a:t>
            </a:r>
            <a:r>
              <a:rPr b="0" lang="sa-IN" sz="3200" spc="-1" strike="noStrike">
                <a:solidFill>
                  <a:srgbClr val="000000"/>
                </a:solidFill>
                <a:latin typeface="Verdana"/>
                <a:ea typeface="Mangal"/>
              </a:rPr>
              <a:t>, </a:t>
            </a:r>
            <a:r>
              <a:rPr b="0" lang="sa-IN" sz="3200" spc="-1" strike="noStrike">
                <a:solidFill>
                  <a:srgbClr val="000000"/>
                </a:solidFill>
                <a:latin typeface="Verdana"/>
                <a:cs typeface="Mangal"/>
              </a:rPr>
              <a:t>पाकिस्तान</a:t>
            </a:r>
            <a:r>
              <a:rPr b="0" lang="sa-IN" sz="3200" spc="-1" strike="noStrike">
                <a:solidFill>
                  <a:srgbClr val="000000"/>
                </a:solidFill>
                <a:latin typeface="Verdana"/>
                <a:ea typeface="Mangal"/>
              </a:rPr>
              <a:t>) </a:t>
            </a:r>
            <a:r>
              <a:rPr b="0" lang="sa-IN" sz="3200" spc="-1" strike="noStrike">
                <a:solidFill>
                  <a:srgbClr val="000000"/>
                </a:solidFill>
                <a:latin typeface="Verdana"/>
                <a:cs typeface="Mangal"/>
              </a:rPr>
              <a:t>आफ्नो सम्बन्ध सुधार गर्दै।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i-IN" sz="8800" spc="-1" strike="noStrike">
                <a:solidFill>
                  <a:srgbClr val="000000"/>
                </a:solidFill>
                <a:latin typeface="Verdana"/>
                <a:cs typeface="Mangal"/>
              </a:rPr>
              <a:t>उपसंहार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2400" spc="-1" strike="noStrike">
                <a:solidFill>
                  <a:srgbClr val="000000"/>
                </a:solidFill>
                <a:latin typeface="Verdana"/>
                <a:cs typeface="Mangal"/>
              </a:rPr>
              <a:t>विश्व हतियार निशश्त्रिकरण तिर लागेको बेला भारत</a:t>
            </a:r>
            <a:r>
              <a:rPr b="0" lang="sa-IN" sz="2400" spc="-1" strike="noStrike">
                <a:solidFill>
                  <a:srgbClr val="000000"/>
                </a:solidFill>
                <a:latin typeface="Verdana"/>
                <a:ea typeface="Mangal"/>
              </a:rPr>
              <a:t>-</a:t>
            </a:r>
            <a:r>
              <a:rPr b="0" lang="sa-IN" sz="2400" spc="-1" strike="noStrike">
                <a:solidFill>
                  <a:srgbClr val="000000"/>
                </a:solidFill>
                <a:latin typeface="Verdana"/>
                <a:cs typeface="Mangal"/>
              </a:rPr>
              <a:t>अमेरिका आणविक सम्झौताले आणविक हतियारको होडबाजी पुन एक चोटी शुरु। यस सम्झौताले १९९०मा रोकिएको अमेरिका</a:t>
            </a:r>
            <a:r>
              <a:rPr b="0" lang="sa-IN" sz="2400" spc="-1" strike="noStrike">
                <a:solidFill>
                  <a:srgbClr val="000000"/>
                </a:solidFill>
                <a:latin typeface="Verdana"/>
                <a:ea typeface="Mangal"/>
              </a:rPr>
              <a:t>-</a:t>
            </a:r>
            <a:r>
              <a:rPr b="0" lang="sa-IN" sz="2400" spc="-1" strike="noStrike">
                <a:solidFill>
                  <a:srgbClr val="000000"/>
                </a:solidFill>
                <a:latin typeface="Verdana"/>
                <a:cs typeface="Mangal"/>
              </a:rPr>
              <a:t>पाकिस्तान बीच हतियार विक्रि पुन ७५ </a:t>
            </a:r>
            <a:r>
              <a:rPr b="0" lang="sa-IN" sz="2400" spc="-1" strike="noStrike">
                <a:solidFill>
                  <a:srgbClr val="000000"/>
                </a:solidFill>
                <a:latin typeface="Verdana"/>
                <a:ea typeface="Mangal"/>
              </a:rPr>
              <a:t>F-16 </a:t>
            </a:r>
            <a:r>
              <a:rPr b="0" lang="sa-IN" sz="2400" spc="-1" strike="noStrike">
                <a:solidFill>
                  <a:srgbClr val="000000"/>
                </a:solidFill>
                <a:latin typeface="Verdana"/>
                <a:cs typeface="Mangal"/>
              </a:rPr>
              <a:t>विमानको कारोवारबाट शुरु भएको।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2400" spc="-1" strike="noStrike">
                <a:solidFill>
                  <a:srgbClr val="000000"/>
                </a:solidFill>
                <a:latin typeface="Verdana"/>
                <a:cs typeface="Mangal"/>
              </a:rPr>
              <a:t>इरान त दक्षिण कोरियालाई निशश्त्रिकरण गर्न लागिपरेको अमेरिका भारतलाई भने आणविक सहयोग </a:t>
            </a:r>
            <a:r>
              <a:rPr b="0" lang="sa-IN" sz="2400" spc="-1" strike="noStrike">
                <a:solidFill>
                  <a:srgbClr val="000000"/>
                </a:solidFill>
                <a:latin typeface="Verdana"/>
                <a:ea typeface="Mangal"/>
              </a:rPr>
              <a:t>(</a:t>
            </a:r>
            <a:r>
              <a:rPr b="0" lang="sa-IN" sz="2400" spc="-1" strike="noStrike">
                <a:solidFill>
                  <a:srgbClr val="000000"/>
                </a:solidFill>
                <a:latin typeface="Verdana"/>
                <a:cs typeface="Mangal"/>
              </a:rPr>
              <a:t>शश्त्रिकरण</a:t>
            </a:r>
            <a:r>
              <a:rPr b="0" lang="sa-IN" sz="2400" spc="-1" strike="noStrike">
                <a:solidFill>
                  <a:srgbClr val="000000"/>
                </a:solidFill>
                <a:latin typeface="Verdana"/>
                <a:ea typeface="Mangal"/>
              </a:rPr>
              <a:t>) </a:t>
            </a:r>
            <a:r>
              <a:rPr b="0" lang="sa-IN" sz="2400" spc="-1" strike="noStrike">
                <a:solidFill>
                  <a:srgbClr val="000000"/>
                </a:solidFill>
                <a:latin typeface="Verdana"/>
                <a:cs typeface="Mangal"/>
              </a:rPr>
              <a:t>गर्न तयार।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2400" spc="-1" strike="noStrike">
                <a:solidFill>
                  <a:srgbClr val="000000"/>
                </a:solidFill>
                <a:latin typeface="Verdana"/>
                <a:cs typeface="Mangal"/>
              </a:rPr>
              <a:t>भारतले १९९८ आणविक निशश्त्रिकरण सन्धिमा हस्ताक्षर गरेको छैन।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09480" y="1828800"/>
            <a:ext cx="81536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सन्दर्भ सामाग्र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a-IN" sz="6000" spc="-1" strike="noStrike">
                <a:solidFill>
                  <a:srgbClr val="000000"/>
                </a:solidFill>
                <a:latin typeface="Verdana"/>
                <a:cs typeface="Mangal"/>
              </a:rPr>
              <a:t>सन्दर्भ सामाग्री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ashington Post washingtonpost.com Washington Post Staff Writers Friday, March 3, 2006; Page A01 By Jim VandeHei and Dafna Linz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BC News http://www.msnbc.msn.co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Encyclopaedia Britannica 2007 Ultimate Reference Su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3520" y="1600200"/>
            <a:ext cx="81532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परिचय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3200" spc="-1" strike="noStrike">
                <a:solidFill>
                  <a:srgbClr val="000000"/>
                </a:solidFill>
                <a:latin typeface="Verdana"/>
                <a:cs typeface="Mangal"/>
              </a:rPr>
              <a:t>सन् २००५</a:t>
            </a:r>
            <a:r>
              <a:rPr b="0" lang="sa-IN" sz="3200" spc="-1" strike="noStrike">
                <a:solidFill>
                  <a:srgbClr val="000000"/>
                </a:solidFill>
                <a:latin typeface="Verdana"/>
                <a:ea typeface="Mangal"/>
              </a:rPr>
              <a:t>, </a:t>
            </a:r>
            <a:r>
              <a:rPr b="0" lang="sa-IN" sz="3200" spc="-1" strike="noStrike">
                <a:solidFill>
                  <a:srgbClr val="000000"/>
                </a:solidFill>
                <a:latin typeface="Verdana"/>
                <a:cs typeface="Mangal"/>
              </a:rPr>
              <a:t>जुलाई १८ अमेरिकी राष्ट्रपति जर्ज बुस र भारतीय प्रधान मन्त्री मनमोहन सिंहबाट आणविक सन्धिमा हस्ताक्ष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7543800" cy="3414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576520" y="533520"/>
            <a:ext cx="39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परिच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3600" spc="-1" strike="noStrike">
                <a:solidFill>
                  <a:srgbClr val="000000"/>
                </a:solidFill>
                <a:latin typeface="Verdana"/>
                <a:cs typeface="Mangal"/>
              </a:rPr>
              <a:t>भारतले अन्तराष्ट्रिय सुपरिवेक्षण टोलीलाई आणविक हातहतियारको निरिक्षण गर्न दिएमा भारतले आफ्नो आणविक कार्यक्रमको लागि नयाँ प्रविधि भित्राउन पाउनेछ ।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i-IN" sz="6600" spc="-1" strike="noStrike">
                <a:solidFill>
                  <a:srgbClr val="000000"/>
                </a:solidFill>
                <a:latin typeface="Verdana"/>
                <a:cs typeface="Mangal"/>
              </a:rPr>
              <a:t>आणविक सन्धि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1828800"/>
            <a:ext cx="81536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उद्देश्य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4000" spc="-1" strike="noStrike">
                <a:solidFill>
                  <a:srgbClr val="000000"/>
                </a:solidFill>
                <a:latin typeface="Verdana"/>
                <a:cs typeface="Mangal"/>
              </a:rPr>
              <a:t>यो प्रश्तुतीको </a:t>
            </a:r>
            <a:r>
              <a:rPr b="0" lang="hi-IN" sz="4000" spc="-1" strike="noStrike">
                <a:solidFill>
                  <a:srgbClr val="000000"/>
                </a:solidFill>
                <a:latin typeface="Verdana"/>
                <a:cs typeface="Mangal"/>
              </a:rPr>
              <a:t>उद्देश्य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4000" spc="-1" strike="noStrike">
                <a:solidFill>
                  <a:srgbClr val="000000"/>
                </a:solidFill>
                <a:latin typeface="Verdana"/>
                <a:cs typeface="Mangal"/>
              </a:rPr>
              <a:t>भारत र अमेरिका बीच भएको आणविक सन्धिको बारेमा जानकारि दिनु र छलफल गर्नु।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76520" y="533520"/>
            <a:ext cx="39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उद्देश्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1828800"/>
            <a:ext cx="81536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अध्ययन क्षेत्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a-IN" sz="4400" spc="-1" strike="noStrike">
                <a:solidFill>
                  <a:srgbClr val="333399"/>
                </a:solidFill>
                <a:latin typeface="Verdana"/>
                <a:cs typeface="Mangal"/>
              </a:rPr>
              <a:t>अमेरिकालाई हुने आर्थिक लाभ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2400" spc="-1" strike="noStrike">
                <a:solidFill>
                  <a:srgbClr val="000000"/>
                </a:solidFill>
                <a:latin typeface="Verdana"/>
                <a:cs typeface="Mangal"/>
              </a:rPr>
              <a:t>भारतले १० वटा आणविक भट्टी खडा गरेमा</a:t>
            </a:r>
            <a:r>
              <a:rPr b="0" lang="sa-IN" sz="2400" spc="-1" strike="noStrike">
                <a:solidFill>
                  <a:srgbClr val="000000"/>
                </a:solidFill>
                <a:latin typeface="Verdana"/>
                <a:ea typeface="Mangal"/>
              </a:rPr>
              <a:t>, </a:t>
            </a:r>
            <a:r>
              <a:rPr b="0" lang="sa-IN" sz="2400" spc="-1" strike="noStrike">
                <a:solidFill>
                  <a:srgbClr val="000000"/>
                </a:solidFill>
                <a:latin typeface="Verdana"/>
                <a:cs typeface="Mangal"/>
              </a:rPr>
              <a:t>कम्तिमा आधाको लागि चाहिने प्रविधि तथा पार्टपुर्जाहरु अमेरिकाबाट आयात गर्नेछ।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 algn="just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2400" spc="-1" strike="noStrike">
                <a:solidFill>
                  <a:srgbClr val="000000"/>
                </a:solidFill>
                <a:latin typeface="Verdana"/>
                <a:cs typeface="Mangal"/>
              </a:rPr>
              <a:t>भारत</a:t>
            </a:r>
            <a:r>
              <a:rPr b="0" lang="sa-IN" sz="2400" spc="-1" strike="noStrike">
                <a:solidFill>
                  <a:srgbClr val="000000"/>
                </a:solidFill>
                <a:latin typeface="Verdana"/>
                <a:ea typeface="Mangal"/>
              </a:rPr>
              <a:t>-</a:t>
            </a:r>
            <a:r>
              <a:rPr b="0" lang="sa-IN" sz="2400" spc="-1" strike="noStrike">
                <a:solidFill>
                  <a:srgbClr val="000000"/>
                </a:solidFill>
                <a:latin typeface="Verdana"/>
                <a:cs typeface="Mangal"/>
              </a:rPr>
              <a:t>अमेरिकी सम्झौताले दुई देशबीचको हवाई तथा अन्तरिक्ष कार्यक्रमको लागि थप टेवा पुग्ने।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 algn="just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2400" spc="-1" strike="noStrike">
                <a:solidFill>
                  <a:srgbClr val="000000"/>
                </a:solidFill>
                <a:latin typeface="Verdana"/>
                <a:cs typeface="Mangal"/>
              </a:rPr>
              <a:t>जडिबुटी</a:t>
            </a:r>
            <a:r>
              <a:rPr b="0" lang="sa-IN" sz="2400" spc="-1" strike="noStrike">
                <a:solidFill>
                  <a:srgbClr val="000000"/>
                </a:solidFill>
                <a:latin typeface="Verdana"/>
                <a:ea typeface="Mangal"/>
              </a:rPr>
              <a:t>, </a:t>
            </a:r>
            <a:r>
              <a:rPr b="0" lang="sa-IN" sz="2400" spc="-1" strike="noStrike">
                <a:solidFill>
                  <a:srgbClr val="000000"/>
                </a:solidFill>
                <a:latin typeface="Verdana"/>
                <a:cs typeface="Mangal"/>
              </a:rPr>
              <a:t>अनुसन्धान तथा विस्तार</a:t>
            </a:r>
            <a:r>
              <a:rPr b="0" lang="sa-IN" sz="2400" spc="-1" strike="noStrike">
                <a:solidFill>
                  <a:srgbClr val="000000"/>
                </a:solidFill>
                <a:latin typeface="Verdana"/>
                <a:ea typeface="Mangal"/>
              </a:rPr>
              <a:t>, </a:t>
            </a:r>
            <a:r>
              <a:rPr b="0" lang="sa-IN" sz="2400" spc="-1" strike="noStrike">
                <a:solidFill>
                  <a:srgbClr val="000000"/>
                </a:solidFill>
                <a:latin typeface="Verdana"/>
                <a:cs typeface="Mangal"/>
              </a:rPr>
              <a:t>प्रतिरक्षा उद्योगमा आपसी समझदारी।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lnSpc>
                <a:spcPct val="10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 algn="just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2400" spc="-1" strike="noStrike">
                <a:solidFill>
                  <a:srgbClr val="000000"/>
                </a:solidFill>
                <a:latin typeface="Verdana"/>
                <a:cs typeface="Mangal"/>
              </a:rPr>
              <a:t>अमेरिकाको लागि चीनको विकल्पमा भारत सस्तो सप्लायर्स हुनसक्ने।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d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a-IN" sz="4400" spc="-1" strike="noStrike">
                <a:solidFill>
                  <a:srgbClr val="333399"/>
                </a:solidFill>
                <a:latin typeface="Verdana"/>
                <a:cs typeface="Mangal"/>
              </a:rPr>
              <a:t>अमेरिकालाई हुने राजनीतिक लाभ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2800" spc="-1" strike="noStrike">
                <a:solidFill>
                  <a:srgbClr val="000000"/>
                </a:solidFill>
                <a:latin typeface="Verdana"/>
                <a:cs typeface="Mangal"/>
              </a:rPr>
              <a:t>भारत अमेरिका र युरोपसंग राजनैतिक र कुटनीतिक रुपमा कसैसँग आबद्ध नभएको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2800" spc="-1" strike="noStrike">
                <a:solidFill>
                  <a:srgbClr val="000000"/>
                </a:solidFill>
                <a:latin typeface="Verdana"/>
                <a:ea typeface="Mangal"/>
              </a:rPr>
              <a:t> </a:t>
            </a:r>
            <a:r>
              <a:rPr b="0" lang="sa-IN" sz="2800" spc="-1" strike="noStrike">
                <a:solidFill>
                  <a:srgbClr val="000000"/>
                </a:solidFill>
                <a:latin typeface="Verdana"/>
                <a:cs typeface="Mangal"/>
              </a:rPr>
              <a:t>भारतसँगको घनिष्टताले भारतिय सामुद्रिक तट र भारतिय समुद्र आफ्नो लागि सुरक्षित बनाउन सकिने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a-IN" sz="2800" spc="-1" strike="noStrike">
                <a:solidFill>
                  <a:srgbClr val="000000"/>
                </a:solidFill>
                <a:latin typeface="Verdana"/>
                <a:cs typeface="Mangal"/>
              </a:rPr>
              <a:t>भारत एक महत्वपूर्ण क्षत्रीय शक्ति भैसकेको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18:15:00Z</dcterms:created>
  <dc:creator/>
  <dc:description/>
  <dc:language>en-US</dc:language>
  <cp:lastModifiedBy/>
  <dcterms:modified xsi:type="dcterms:W3CDTF">2010-01-16T07:18:58Z</dcterms:modified>
  <cp:revision>1</cp:revision>
  <dc:subject/>
  <dc:title>Slide 1</dc:title>
</cp:coreProperties>
</file>